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5A52-0164-4C05-A295-046D4150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470C-F12B-4DD2-A85F-75837BB6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5F26-F996-4351-BEB0-07AC5FB4C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B228-8AE8-4406-B0D6-8D687EE4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8D33-747E-4666-942B-06970D115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E123-DCC4-4796-A3D0-FF4FEFF6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FCC6-CE40-4905-B807-C8EC8B2E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0F31-DF2F-423E-B6F2-91690870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1283-64F4-4D72-9F3E-7FEB49D6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3455-C26C-4BC8-AE89-E39036BF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C728-F191-428C-80BF-8EECBC0B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E4C5-E0E7-44CA-8C05-5D465F43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550C-9BCD-413C-9A9A-52C994D6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821B-D117-4622-97CF-D7AEF778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8C26-D0B5-4BCB-A94E-E9F21309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3EF1-DD70-4573-ACBB-55C71F358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6357-6692-4B31-BB49-97B1E4960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06ED-C5E0-415B-8852-DC891DAE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EF7F-666D-4142-AF71-48BDC9BB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23CD-978D-4D64-94E8-42D7A4D6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D143-8554-4455-AE0B-D6BB84E2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F010-B4D8-4637-8642-5796E519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2A2F-4A64-498E-8936-E0F4EDF4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CD8F-B428-430B-B777-B13F3F45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F343-E661-4593-B5E4-29D2BA9BF81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815480" y="6628320"/>
            <a:ext cx="534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06 The McGraw-Hill Companies Inc. Permission Required for Reproduction or Display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30D8-51E7-4A12-AADF-89B144D7529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15480" y="6628320"/>
            <a:ext cx="534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06 The McGraw-Hill Companies Inc. Permission Required for Reproduction or Display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aramond"/>
              </a:rPr>
              <a:t>Chapter 10 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23880" y="55627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esurgence of Empire in East 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76720" y="990720"/>
            <a:ext cx="3906720" cy="415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56BB-A9A1-4C70-8D00-55DBF63811E6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The Sui and Tang dynasties, 589-907 C.E.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11280" y="1600200"/>
            <a:ext cx="792144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8361-A637-4A1D-9EE6-833C46F84EE9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ang Declin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vernmental neglect: Emperor obsessed with music, favorite concub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55 rebellion under An Lushan, former military command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ptures Chang’an, but rebellion crushed by 76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madic Uighur mercenaries invited to suppress rebellion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ighurs are defeated by the Kirghiz who sacked Chang’an and Luoya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 decline continues, rebellions in 9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entury, last emperor abdicates 90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E479-A333-428F-83DF-86B0C8FEC51C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Song Dynasty (960-1279 CE)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hasis on administration, industry, education, the ar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litary not emphasiz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on of first emperor, Song Taizu (r. 960-976 C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er military lea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de emperor by tro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ituted policy of imperial favor for civil servants, expanded meritocra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BE18-9CDC-43AA-9E8B-B83AA4B6C8CF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Song dynasty, 960-1279 C.E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895400" y="1600200"/>
            <a:ext cx="53532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42E5-D8AB-4DFB-9C5B-6F770819EF9F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Song Weaknesse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ze of bureaucracy heavy drain on econom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peasant rebellions in 1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l inertia prevents reform of bureaucra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vil service leadership of milita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cked military 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ble to contain nomadic atta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rchen conquer, force Song dynasty to Hangzhou, southern China (Southern So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g try to work with the Mongols only to be defeated in battle as the Song were internally factional and suffered from losses in tax revenu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uan Dynasty (Mongo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BC18-446E-49BD-90E7-E3639A1F8858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Agricultural Economies of the Tang and Song Dynastie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d Vietnamese fast-ripening rice, 2 crops per ye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ology: iron plows, use of draft anima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il fertilization, improved irrig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er wheels, cana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race farm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FEDF-64E7-40A8-9173-A7DB0397F57A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hinese Political Structur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sing information from Chapter 11 Pages 268-9 design a pictorial reference of the Chinese political system.  These are to be detailed sketches of the growth of the system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d to not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F8A5-4F48-45E7-ABC3-07F6157DB87A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Population Growth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1600200"/>
          <a:ext cx="4038480" cy="45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4038480" cy="45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 of increased agricultural produ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ective food distribution syst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ation networks built under Tang and Song dynas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6BD0-3BC7-4B5A-9013-8FE0E4F53332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Urbanization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’an world’s most populous city: 2 million resid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thern Song capital Hangzhou: over 1 mill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veral cities over 100,0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F118-A13A-423B-8AEE-FE838FBB86CF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Patriarchal Social Structure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emphasis on ancestor worshi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aborate grave ritua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family gatherings in honor of deceased ancesto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otbinding gains popular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control by male family memb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D2B3-EBCF-4986-A58C-C64C3AA10018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Sui Dynasty (581-618 CE)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onal kingdoms succeed collapse of Han dynasty – Era of the 6 Dynasties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tion and acceptance of Mahayana Buddhis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ang Jian/Sui Yangdi consolidates control of all of China, initiates Sui Dynas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sive building projects – canal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litary lab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cripted lab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705720" y="4114800"/>
            <a:ext cx="1990440" cy="234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3E0D-D88B-4996-81DE-21515B75D1B6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Footbinding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5316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38C6-E8D3-443F-B1F0-73CBADAD4B76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echnology and Industry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celain (“Chinaware”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 of iron production due to use of coke, not coal, in furna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ricultural tools, weapon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npowder invented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rlier printing techniques refin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eable type by mid-1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ent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t complex Chinese ideographs make wood block technique eas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al technolog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26AD-4A66-4D0B-BAA1-30DE71E344F1}" type="slidenum">
              <a:t>21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Emergence of a Market Economy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ying cash:” letters of credit developed to deal with copper coin shortag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issory notes, checks also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of independently produced paper mone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s stable, riots when not hono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vernment claims monopoly on money production in 11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entu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CEB0-5EF2-40D5-B606-AC739B607EB0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hina and the Hemispheric Economy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ingly cosmopolitan nature of Chinese cit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nese silk opens up trade routes, but increases local demands for imported luxury go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0E30-B86E-40F0-90C3-DBDB3BAF9418}" type="slidenum">
              <a:t>23</a:t>
            </a:fld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ultural Change in Tang and Song Chin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lining confidence in Confucianism after collapse of Han dynas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ing popularity of Buddhis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ristianity, Manichaeism, Zoroastrianism, Islam also appe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ele primarily foreign merchant clas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9BBD-A8CA-4081-A931-29DB16C33D46}" type="slidenum">
              <a:t>24</a:t>
            </a:fld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Dunhuang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hayana Buddhism especially popular in western China (Gansu province), 600-1000 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ddhist temples, librar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onomic success as converts donate land holding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 popularity through donations of agricultural produce to the po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CDDC-22D6-4AF3-BF59-B3B2616294C5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onflicts with Chinese Cultur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ddhism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-based (Buddhist teaching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hasis on Metaphys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cetic ide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libac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l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ucianism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-based (Confucian teaching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oism not text-bas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hasis on ethics, polit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y-center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re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ial pie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4874-4962-4C4E-991B-E1CAF05A6695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han (Zen) Buddhism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ddhists adapt ideology to Chinese clim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harm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anslated a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rvan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ted a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uw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mmodated family lifesty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son in monastery for ten generations of salvation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empahsis on textual study, meditation instea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50EB-5A42-4B76-A909-E1D63A7B7EA8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Persecution of Buddhist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oist/Confucian persecution supported in late Tang dynas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40s begins systematic closure of Buddhist temples, expuls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oroastrians, Christians, Manicheans as we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onomic motive: seizure of large monastic landholding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9260-7582-4D57-A493-1E234C676B8F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Neo-Confucianism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g dynasty refrains from persecuting Buddhists, but favors Confucia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o-Confucians influenced by Buddhist though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hu Xi (1130-1200 CE) important synthesiz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pular to 20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entu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65FA-6193-4ADE-A04A-3EEEDD3E87F3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Grand Canal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396252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nded to promote trade between north and south Chin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hinese rivers flow west-e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ed network of earlier cana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0k (1240 mi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ads on either b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cceeded only by railroad traffic in 20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entu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343400" y="685800"/>
            <a:ext cx="3962520" cy="514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3643-A1A6-4636-AD64-8CF88C1E0F16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hina and Kore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lla Dynasty: Tang armies withdraw, Korea recognizes Tang as emper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ly a vassal statue, but highly independ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nese influence on Korean culture pervas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E583-CEDA-41C8-A274-EFDABC9C1F75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hina and Vietnam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tnamese adaptation to Chinese culture, technolog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 ongoing resentment at political domin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ert independence when Tang dynasty falls in 10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entu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5AF2-52B2-40FD-B33C-DEC7AA9ED83A}" type="slidenum">
              <a:t>31</a:t>
            </a:fld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hina and Early Japan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nese armies never invade Japa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t Chinese culture pervasiv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itation of Tang administr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ishment of new capital at Nara, hence “Nara Japan” (710-794 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ption of Confucian, Buddhist teaching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t retention of Shinto relig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6FA8-D68B-4009-89E1-E2A6919877B4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Heian Japan (794-1185 CE)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panese emperor moves court to Heian (Kyoto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t emperor figurehead, real power in hands of Fujiwara cla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tern in Japanese history: weak emperor, power behind the thro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s explain longevity of the institu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406A-3D83-4D58-8A93-529A2C930763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Japanese Literatur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luence of Chinese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anji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harac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ic curriculum dominated by Chine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of hiragana, katakana syllabic alphab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urt life: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ale of Genj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ten by woman with weak command of Chinese, becomes classic of early Japanese liter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1AC4-7428-4F88-85FD-1CAFCD969C8D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Institution of the </a:t>
            </a:r>
            <a:r>
              <a:rPr b="0" i="1" lang="en-US" sz="4200" spc="-1" strike="noStrike">
                <a:solidFill>
                  <a:srgbClr val="ffffff"/>
                </a:solidFill>
                <a:latin typeface="Garamond"/>
              </a:rPr>
              <a:t>Shogun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vil war between Taira and Minamoto clans in 1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entu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amoto leader named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gun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1185 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led from Kamakura, allowed imperial throne to continue in Kyo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CA96-98DE-4271-8D41-5744C893D33D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Medieval Japan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amakura (1185-1333 CE) and Muromachi (1336-1573 CE) peri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entralized power in hands of warlor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litary authority in hands of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ura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essional warrio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E4E5-F818-48F7-B793-4BDCC1266397}" type="slidenum">
              <a:t>36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Grande Canal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7D2D-5964-4283-9B2D-9E63B8DE4A05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Tang Dynasty (618-907 CE)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de discontent over conscripted labor in Sui dynas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litary failures in Korea prompt rebell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eror assassinated in 618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 Dynasty initia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11A0-6FC9-4888-8FEB-F088BF50069D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ang Taizong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ond emperor of Tang dynasty (r. 627-649 CE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rdered two brothers, thrust father aside to take thro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ong rul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 capital at Chang’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w and 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xes, prices 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effective implementation of earlier Sui poli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D093-7AC4-4FA6-BF8B-4671218C8E6C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Major achievements of Tang Dynasty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ation and communic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ve postal, courier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al-field Syst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% of land hereditary owner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0% redistributed according to form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y size, land fert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ed well until 8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ent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ruption, loss of land to Buddhist monaste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8754-42CE-4E36-A65C-D807B639ACA1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Bureaucracy of Meri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erial civil service examin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ucian educational curriculu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bribery, nepotis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 most advance through mer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 loyalty to the dynas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remains strong until early 20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entu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FFB1-8191-4486-94AA-6567603A7FE8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ang Military Expansion and Foreign Relation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churia, Korea, Vietnam, Tib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occupation of Tibet by Chin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of the largest expansions of China in its histo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ished tributary relationship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f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na as “Middle Kingdom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kowtow ritu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DF01-F83B-4CE6-8499-987EA3D98616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15:23:25Z</dcterms:created>
  <dc:creator>Library</dc:creator>
  <dc:description/>
  <dc:language>en-US</dc:language>
  <cp:lastModifiedBy>ripkensa</cp:lastModifiedBy>
  <dcterms:modified xsi:type="dcterms:W3CDTF">2009-11-25T20:55:13Z</dcterms:modified>
  <cp:revision>27</cp:revision>
  <dc:subject/>
  <dc:title>15. The Resurgence of Empire in East Asia</dc:title>
</cp:coreProperties>
</file>